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EB6-DCBB-4C04-A674-623ABEE1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8D1-8726-4480-B088-997D465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766-32E9-4E0A-9F09-54CBD97F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EDE-2B2B-446C-9A59-505FC9D6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E41-6AEB-421C-BD2E-0A57BF4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18B-A2FF-40E2-AB86-2FD624ED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D4E-B9B9-4EF9-A130-92B57377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33C-30A9-4226-9AD2-585A51B6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9A2-04BE-4399-9FF5-055823C7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113-6590-45B1-8619-E9127C0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D71-D8BE-4458-AA9B-5D86F50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219-B830-4AAB-A8FF-67E5A47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15BB-9007-45B7-9FBD-65B3F1C17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5000" y="3697200"/>
            <a:ext cx="70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believe that artists should only m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 about beautiful thing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belie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cre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images that will make people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?  Support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St. Thomas Chur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eri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9.75” x 1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Generator #1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raige Sheppard, American, born 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2” x 4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2874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240804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520" y="57546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details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architecture, shape, color, space, artis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, seri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11360" cy="317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64132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8720" y="609480"/>
            <a:ext cx="409716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8880" y="533520"/>
            <a:ext cx="366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hou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 chose to show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 in his art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can you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6240" y="3505320"/>
            <a:ext cx="86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made by a proces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lk sc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is a process that allows the artist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rints of the same image that are alik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erigraph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col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can you find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3320" y="3733920"/>
            <a:ext cx="82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you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ing the church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you say ab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e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35200" cy="533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65640" y="344520"/>
            <a:ext cx="3723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another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what ki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is shown 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de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 chose to create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 about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0848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50840" y="990720"/>
            <a:ext cx="380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by looking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age how the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mad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appear to b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, a drawing 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69240" y="3621240"/>
            <a:ext cx="78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place these artworks side by sid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 carefully, we can see ways they are alik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ays they are very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shape, subject, patter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4600" y="3581280"/>
            <a:ext cx="75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churches in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to draw or paint?  What makes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 bridges, factories, stor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you would like to draw or paint? 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th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esting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2:4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